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arrow.wav" ContentType="audio/x-wav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618-A26F-4C13-AB65-4980F9AD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6DA-9E75-4B43-AE2D-9161FE37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92C-8928-4EDF-8108-497575B4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06B-0C9F-4089-9FAD-5ACCC34E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9047-7B06-45DA-999C-611B15BE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90E2-ED14-436D-91D2-ECA1910D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3F6-2F1A-45BC-A83E-D92E6DA0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F422-656F-4BEE-890A-0F1D4E4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D5C-71AB-4818-973B-DA99CD56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11B4-26A1-4D0D-AA86-39D4D9D4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64F-6575-4926-96BF-D7DF797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9F5-3D1B-4187-B5C9-1265E613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3B7F-DA3A-4C59-8407-680F4BDE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EE6D-BEB8-4BD4-8864-B18707F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986-BFA3-4291-A212-94F84BE9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0786-ED83-4173-9CC0-53656651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E754-E597-4C11-B917-7BB7368A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A56-D4C8-4B2A-BE60-5FC9375D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794-4A2A-4889-9FD5-6CAE4DBF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3D0-5473-43CA-95D6-9DFA94E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091-D78F-4D9C-9E7B-E1D32CB3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161-B65A-4CBD-95A4-7D476B2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155-E8C3-4EEE-9130-F5325A5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7BF-4D76-4495-814C-8A66062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33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3BC7-0853-42FC-8617-4E68191ADA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697-5072-430F-82CD-380DEB164700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a, Aztec, Inca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Mexica-tenochtitlan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nochtitlan-76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enochtitlan_National_Palace_Diego_Riv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1400-1532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West coast of South America along the Andes Mountains (Peru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expert builders (Macchu Picchu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rraces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throughout Andes Mountains for farming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medically advanced (brain surgery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largest empire in the Americas (land and population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achu_picch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developed an early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365-day calendar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o plan religious activities and farming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8" descr="calendar_maya"/>
          <p:cNvPicPr/>
          <p:nvPr/>
        </p:nvPicPr>
        <p:blipFill>
          <a:blip r:embed="rId1"/>
          <a:stretch/>
        </p:blipFill>
        <p:spPr>
          <a:xfrm>
            <a:off x="949320" y="2065320"/>
            <a:ext cx="375912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grew enough crops to feed its ten million citizens by carving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errac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into the mountainous terrain of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And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, and growing corn, potatoes and mor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8" descr="IMAGE # i20"/>
          <p:cNvPicPr/>
          <p:nvPr/>
        </p:nvPicPr>
        <p:blipFill>
          <a:blip r:embed="rId1"/>
          <a:stretch/>
        </p:blipFill>
        <p:spPr>
          <a:xfrm>
            <a:off x="609480" y="17524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built the amazing city of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enochtitla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– complete with stone pyramid structures, drawbridges and floating gardens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0" name="Picture 10" descr="Tenochtitlan_National_Palace_Diego_Rivera"/>
          <p:cNvPicPr/>
          <p:nvPr/>
        </p:nvPicPr>
        <p:blipFill>
          <a:blip r:embed="rId1"/>
          <a:stretch/>
        </p:blipFill>
        <p:spPr>
          <a:xfrm>
            <a:off x="228600" y="2362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civilization controlled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he most land area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3" name="Picture 7" descr="P027_MAP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had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first written language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in the Americas, with over 500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glyph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o represent different idea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Picture 7" descr="WebPage-ImageF"/>
          <p:cNvPicPr/>
          <p:nvPr/>
        </p:nvPicPr>
        <p:blipFill>
          <a:blip r:embed="rId1"/>
          <a:stretch/>
        </p:blipFill>
        <p:spPr>
          <a:xfrm>
            <a:off x="152280" y="228600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017-CHART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 written language, but they had a record-keeping system of knotted strings called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quipu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Picture 8" descr="quipu2"/>
          <p:cNvPicPr/>
          <p:nvPr/>
        </p:nvPicPr>
        <p:blipFill>
          <a:blip r:embed="rId1"/>
          <a:stretch/>
        </p:blipFill>
        <p:spPr>
          <a:xfrm>
            <a:off x="992160" y="2678040"/>
            <a:ext cx="426888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en their powerful military conquered other Native American groups, they often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acrific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captured enemies to the God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Picture 8" descr="aztecs40"/>
          <p:cNvPicPr/>
          <p:nvPr/>
        </p:nvPicPr>
        <p:blipFill>
          <a:blip r:embed="rId1"/>
          <a:stretch/>
        </p:blipFill>
        <p:spPr>
          <a:xfrm>
            <a:off x="762120" y="1981080"/>
            <a:ext cx="31240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is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westernmost civilizatio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shown on the map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5" name="Picture 4" descr="P027_MAP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were advanced medically, even successfully practicing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rain surgery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centuries ag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8" name="Picture 8" descr="86617"/>
          <p:cNvPicPr/>
          <p:nvPr/>
        </p:nvPicPr>
        <p:blipFill>
          <a:blip r:embed="rId1"/>
          <a:stretch/>
        </p:blipFill>
        <p:spPr>
          <a:xfrm>
            <a:off x="1020600" y="2058840"/>
            <a:ext cx="3327480" cy="206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trep1"/>
          <p:cNvPicPr/>
          <p:nvPr/>
        </p:nvPicPr>
        <p:blipFill>
          <a:blip r:embed="rId2"/>
          <a:stretch/>
        </p:blipFill>
        <p:spPr>
          <a:xfrm>
            <a:off x="1143000" y="4191120"/>
            <a:ext cx="2666880" cy="23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ince the dry soil was not good for farming, they planted “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floating crop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” on reed mats.  The crops rooted themselves in the shallow lake be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1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2" name="Picture 7" descr="119_00_2"/>
          <p:cNvPicPr/>
          <p:nvPr/>
        </p:nvPicPr>
        <p:blipFill>
          <a:blip r:embed="rId1"/>
          <a:stretch/>
        </p:blipFill>
        <p:spPr>
          <a:xfrm>
            <a:off x="228600" y="2590920"/>
            <a:ext cx="41911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ir civilization declined around 900AD.  Archaeologists are still trying to solv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he mystery of the end of this great civilizatio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6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6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Picture 8" descr="Tikal"/>
          <p:cNvPicPr/>
          <p:nvPr/>
        </p:nvPicPr>
        <p:blipFill>
          <a:blip r:embed="rId1"/>
          <a:stretch/>
        </p:blipFill>
        <p:spPr>
          <a:xfrm>
            <a:off x="609480" y="21337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Emperors_new_groove"/>
          <p:cNvPicPr/>
          <p:nvPr/>
        </p:nvPicPr>
        <p:blipFill>
          <a:blip r:embed="rId1"/>
          <a:stretch/>
        </p:blipFill>
        <p:spPr>
          <a:xfrm>
            <a:off x="1467000" y="1981080"/>
            <a:ext cx="272412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 the Disney movie based on this civilization, the main character is named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Cuzco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, after the capital city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civilization is shown in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r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1" name="Picture 4" descr="P027_MAP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 connect their huge empire, runners carried messages over 10,000 miles of stone paved road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70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4" name="Picture 7" descr="roadway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027_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P027-KEY"/>
          <p:cNvPicPr/>
          <p:nvPr/>
        </p:nvPicPr>
        <p:blipFill>
          <a:blip r:embed="rId2"/>
          <a:stretch/>
        </p:blipFill>
        <p:spPr>
          <a:xfrm>
            <a:off x="228600" y="4495680"/>
            <a:ext cx="327672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y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hrived from A.D. 300-900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outhern Mexico &amp; Central America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ikal was largest city (present-day Guatemala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Mayan priests controlled everything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eocracy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killed in astronomy &amp; mathematics                     (example – 365-day calendar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first written language in the Americas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ieroglyphics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why civilization declined in A.D. 900 is a mystery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WebPage-Imag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tikal-aerial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guatemala_tik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zte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1325-1519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entral Mexico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island in Lake Texcoco chosen because of religious sign (eagle perched on cactus with snake in beak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ociety organized around religion (human sacrifices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enochtitlan was once the largest city in Americas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military empire kept growing by conquering others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lag_mexi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2:26:14Z</dcterms:created>
  <dc:creator>HP Authorized Customer</dc:creator>
  <dc:description/>
  <dc:language>en-US</dc:language>
  <cp:lastModifiedBy>San Diego City Schools</cp:lastModifiedBy>
  <dcterms:modified xsi:type="dcterms:W3CDTF">2011-10-12T19:10:38Z</dcterms:modified>
  <cp:revision>42</cp:revision>
  <dc:subject/>
  <dc:title>Early Peoples</dc:title>
</cp:coreProperties>
</file>